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8B6-C03F-4809-A323-F81F9146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3D7-8120-4E81-856C-477C0683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0D0-390F-4012-BB8B-986DA3C7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EB7-1BCA-4ABF-AFBA-CD9844B4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3B6-39EB-414B-83A9-1D74DED3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7BD-0A9E-4E79-8443-8AE2F644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BA2-A678-4EDF-9647-F472B30F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02A-3EFB-45B3-9C43-003B0D4D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092-BABD-4716-89BE-EE08D0DA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9A3-5F97-4AE3-91F7-9CDCCD8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DA9-FC93-4ECA-9B2D-DDB87B9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81A-CEEC-4DA7-8FE5-D06791F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7540-BE4D-41CB-9532-CB951A8F6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The consequence of the water consommation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687680"/>
            <a:ext cx="3703680" cy="53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USA Consommati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3060720"/>
            <a:ext cx="5219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The water consommation in the USA is enor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b80047"/>
                </a:solidFill>
                <a:latin typeface="Copperplate Gothic Bold"/>
              </a:rPr>
              <a:t>  </a:t>
            </a:r>
            <a:r>
              <a:rPr b="1" lang="fr-FR" sz="1800" spc="-1" strike="noStrike">
                <a:solidFill>
                  <a:srgbClr val="b80047"/>
                </a:solidFill>
                <a:latin typeface="Copperplate Gothic Bold"/>
              </a:rPr>
              <a:t>1840 m3  per inhabitants in a yea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80000" y="1963800"/>
            <a:ext cx="445464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6600" y="87915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47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Euro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3060720"/>
            <a:ext cx="3600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Europe consume 180 000 m3 of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72320" y="2076480"/>
            <a:ext cx="384804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00360" y="5467320"/>
            <a:ext cx="360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23ff23"/>
                </a:solidFill>
                <a:latin typeface="Arial"/>
              </a:rPr>
              <a:t>Italy: 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6633"/>
                </a:solidFill>
                <a:latin typeface="Arial"/>
              </a:rPr>
              <a:t>Spain: 1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99ff"/>
                </a:solidFill>
                <a:latin typeface="Arial"/>
              </a:rPr>
              <a:t>France: 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Germany: 5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K: 2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2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2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Asia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979640"/>
            <a:ext cx="3600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sian consume 68%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59280" y="1706400"/>
            <a:ext cx="39052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5580000"/>
            <a:ext cx="32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Japan: 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ff"/>
                </a:solidFill>
                <a:latin typeface="Arial"/>
              </a:rPr>
              <a:t>Vietnam: 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ambodge: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060720"/>
            <a:ext cx="5219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10/20 L per inhabitants in a day</a:t>
            </a: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	</a:t>
            </a: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00720" y="1697040"/>
            <a:ext cx="4402080" cy="49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Asian and USA are the biggest consummer of water in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Why 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Because they are the most populated continents of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And they have  really bad habitudes (like europ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780000"/>
            <a:ext cx="53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59280" y="3780000"/>
            <a:ext cx="17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0000" y="360036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9640" y="360036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0360" y="3780000"/>
            <a:ext cx="36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3780000"/>
            <a:ext cx="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